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0FB-5C34-4E77-9CF3-512BA83F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C3A-69CB-4214-AF17-454A448D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6A2-BBDB-4788-9249-ACC1D33A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6BF-9062-41FE-B375-7EBAF1F7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C36E-193D-44D1-96B5-48AE811E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41B1-E61C-4A95-995B-2E193902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F5A4-4A62-4087-9BAC-D6A4ED0E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0333-7DA1-4C4B-90C7-2BA01966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0095-AC6C-4DA1-AD23-561ADFA7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967-5A65-44EB-A863-295A5637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B636-C62E-4214-B42B-A4B7BBB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5E8-DF62-418E-B4C6-A5A52D77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21A4-9688-4213-B5E8-92322D3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B3AD-E8ED-401B-85F8-E35534B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C2F5-6546-43EC-81F4-D1D2D9D5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59FE-0B36-4187-9EC0-B06F6D77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E98A-39EF-4205-A61D-94ABF91E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7E7-B3A2-4562-95BB-8A505359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25E-518F-4A23-80E4-BFBA8E39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855-0209-429F-8FDB-A3B73703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4C9-0E65-481D-BF5D-42F5BCC0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4B4-EB14-455A-96FB-44D617EF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6A8-66F9-4882-AD6F-3578A44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3B4-FAE3-42CB-805C-2A6EAF8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ECC-1762-42BF-B4F2-004725760E16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3AA0-6613-4B5E-A6EA-453536C672F8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t.wikipedia.org/wiki/Brasil" TargetMode="External"/><Relationship Id="rId2" Type="http://schemas.openxmlformats.org/officeDocument/2006/relationships/hyperlink" Target="http://pt.wikipedia.org/wiki/Negr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Zumbi_dos_Palmares" TargetMode="External"/><Relationship Id="rId2" Type="http://schemas.openxmlformats.org/officeDocument/2006/relationships/hyperlink" Target="http://pt.wikipedia.org/wiki/1695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Movimento_Negro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t.wikipedia.org/wiki/1960" TargetMode="External"/><Relationship Id="rId2" Type="http://schemas.openxmlformats.org/officeDocument/2006/relationships/hyperlink" Target="http://pt.wikipedia.org/wiki/13_de_Maio" TargetMode="External"/><Relationship Id="rId3" Type="http://schemas.openxmlformats.org/officeDocument/2006/relationships/hyperlink" Target="http://pt.wikipedia.org/wiki/Abolicionismo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sciência Neg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ia Da Consciência Negr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ia 20 De Novemb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tuais Da Consciência Neg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tuais Dos Homen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enininha Negra é uma prova de  orgulho da Consciência Neg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m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♥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Alunas: Rubya e Letic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N° 30 e 3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Professora: Nilz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7° Ano 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Consciência Neg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Dia da Consciência Negra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é celebrado em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20 de Novembr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n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Brasil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e é dedicado à reflexão sobre a inserção d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negro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na sociedade brasileira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emana Da Consciênci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gr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data foi escolhida por coincidir com o dia da morte d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Zumbi dos Palmar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, em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1695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umas entidades como 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Movimento Negr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 maior do gênero no país) organizam palestras e eventos educativos, visando principalmente crianças negra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ocura-se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ocura-se evitar o desenvolvimento do auto-preconceito, ou seja, da inferiorizarão perante a sociedad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tros temas debatidos pela comunidade negr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utros temas debatidos pela comunidade negra e que ganham evidência neste dia são: inserção do negro no mercado de trabalho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tas Universitárias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e há discriminação por parte da polícia, identificação de etnias, moda e beleza negra, etc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dia é celebrado desde a década d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1960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mbora só tenha ampliado seus eventos nos últimos anos; até então, o movimento negro precisava se contentar com o dia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13 de Mai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3"/>
              </a:rPr>
              <a:t>Abolição da Escravatura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– comemoração que tem sido rejeitada por enfatizar muitas vezes a "generosidade" da princesa Isab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apoei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4360" y="1978200"/>
            <a:ext cx="777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19:03Z</dcterms:created>
  <dc:creator>SEDMS</dc:creator>
  <dc:description/>
  <dc:language>en-US</dc:language>
  <cp:lastModifiedBy>administradorr</cp:lastModifiedBy>
  <dcterms:modified xsi:type="dcterms:W3CDTF">2010-11-09T17:35:45Z</dcterms:modified>
  <cp:revision>2</cp:revision>
  <dc:subject/>
  <dc:title>Consciência Negra</dc:title>
</cp:coreProperties>
</file>